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C80-A66C-494C-AD79-F94FACCB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F52-BD8B-44E9-9E39-DEC63C75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A1A-20F3-4965-8A2E-32B365E3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3F8-21F3-4D99-BDB4-F16D3A49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E080-905C-4D7F-A4B1-6CDF99AB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8260-AC73-44D8-AF4D-33FA012A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F38F-01BA-4019-ADB4-5E7962BF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1E3A-789B-49C3-A6AD-D217B86E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22BE-FBE5-4CEC-BFC9-42C07DA1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277920"/>
            <a:ext cx="8218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94D2-2459-4FE6-A655-5AC36CFF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C765-BB42-4B07-983B-556DBC7B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941-CBFA-4F01-ADD0-71420CB9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B40E-978C-43E6-AD51-5381C5B3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256A-3DCF-4AF1-9386-F8456353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08F4-767C-4D54-BF7D-6A88B209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A72A-0CE3-4DD7-BA82-0A8BE2D6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0520-9652-42F0-9047-BD0D80F5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2A21-54DD-48D3-AAB8-AAFC6763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BBAC-83F3-4E84-A47C-C741092B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4EEF3-5E66-4775-9939-8CE76D8F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B4DF-B840-47E5-A679-EE39A9BA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628C-E4EE-4B78-B1F3-E052212C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25D-648C-4CA8-9325-F2A9F349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000" y="277920"/>
            <a:ext cx="8218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F76AB-8ABF-43E3-836A-1B4C0DE6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B066-B191-4BD4-BD5D-5055662B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544E-0FD5-4455-982C-CEB1C7E4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A9375-5FF8-4398-9B5F-527D6594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DC93-3087-473A-9877-2A0958B8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FC073-F1EC-4CCE-B4C4-F83913B9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DE6C7-F121-4AE7-9BA0-8EAAF3F9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98A-BF57-494A-9FD0-8F21B358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B4E-DEF9-4198-BCC1-5DEBEAD9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77920"/>
            <a:ext cx="8218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F5B-3595-4941-A506-E7028563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407-E867-44C5-B8A4-1BA2D3F1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FFF-FF3C-486B-9B86-A02B5E1F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7718-1F03-4284-8F75-7943A67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3B89-DD02-4368-954B-500D48F283E7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D2C2-047F-4C49-8197-F61438D765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609480" y="21337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A087-BCE9-49BB-96DC-AC2D2B5EBCCF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4360" y="2997360"/>
            <a:ext cx="77104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cc0000"/>
                </a:solidFill>
                <a:latin typeface="Tahoma"/>
              </a:rPr>
              <a:t>ANDAMENTO MERCATO RADIO</a:t>
            </a:r>
            <a:br>
              <a:rPr sz="3400"/>
            </a:br>
            <a:r>
              <a:rPr b="0" lang="it-IT" sz="2000" spc="-1" strike="noStrike">
                <a:solidFill>
                  <a:srgbClr val="cc0000"/>
                </a:solidFill>
                <a:latin typeface="Tahoma"/>
              </a:rPr>
              <a:t>Gennaio – Dicembre 2014/2015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3790800" y="580536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Febbrai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5"/>
          <p:cNvSpPr/>
          <p:nvPr/>
        </p:nvSpPr>
        <p:spPr>
          <a:xfrm>
            <a:off x="611280" y="2925720"/>
            <a:ext cx="792468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457200" y="630864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393840" y="6307200"/>
            <a:ext cx="835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Nielsen, Pubblicità Tabellare Commerciale Nazionale, fatturati netti Gennaio-Dicembre 2015 Vs. 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reeform 2"/>
          <p:cNvSpPr/>
          <p:nvPr/>
        </p:nvSpPr>
        <p:spPr>
          <a:xfrm>
            <a:off x="392040" y="228600"/>
            <a:ext cx="821844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57200" y="630864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77920" y="1341360"/>
            <a:ext cx="854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VESTITORI SUL MEZZO RADIO: EVOLUZIONE MEDIA M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468360" y="277920"/>
            <a:ext cx="8218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ahoma"/>
              </a:rPr>
              <a:t>MEDIA MIX CLIENTI RADIOFONICI SU ALTRI MEZZI</a:t>
            </a:r>
            <a:br>
              <a:rPr sz="2400"/>
            </a:br>
            <a:r>
              <a:rPr b="1" lang="it-IT" sz="1800" spc="-1" strike="noStrike">
                <a:solidFill>
                  <a:srgbClr val="cc0000"/>
                </a:solidFill>
                <a:latin typeface="Tahoma"/>
              </a:rPr>
              <a:t>FOCUS SUI PRIMI 5 SETTORI DEL COMPARTO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728800" y="2077920"/>
            <a:ext cx="17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241 Mio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5608800" y="2079720"/>
            <a:ext cx="177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226 Mio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2700360" y="170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SETTORE MEDIA/EDI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Grafico 12"/>
          <p:cNvGraphicFramePr/>
          <p:nvPr/>
        </p:nvGraphicFramePr>
        <p:xfrm>
          <a:off x="1601640" y="2297160"/>
          <a:ext cx="6588360" cy="40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Grafico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297160"/>
                    <a:ext cx="658836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 Box 18"/>
          <p:cNvSpPr/>
          <p:nvPr/>
        </p:nvSpPr>
        <p:spPr>
          <a:xfrm>
            <a:off x="393840" y="6307200"/>
            <a:ext cx="835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Nielsen, Pubblicità Tabellare Commerciale Nazionale, fatturati netti Gennaio-Dicembre 2015 Vs. 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ahoma"/>
              </a:rPr>
              <a:t>PRINCIPALI EVIDENZE</a:t>
            </a:r>
            <a:endParaRPr b="0" lang="en-US" sz="24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1" name="Freeform 5"/>
          <p:cNvSpPr/>
          <p:nvPr/>
        </p:nvSpPr>
        <p:spPr>
          <a:xfrm>
            <a:off x="392040" y="228600"/>
            <a:ext cx="821844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57200" y="630864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808200" y="1125360"/>
            <a:ext cx="801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2015 presenta un andamento positivo del comparto sia per quanto riguarda gli investimenti sia in termini di numerica di inserzioni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 i primi 5 settori, che concentrano il 62% dello spending complessivo, i comparti che registrano una leggera flessione sono Media/Editoria e Telecomunicazio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Auto rimangono il primo settore ma la crescita maggiore riguarda il Largo Consumo (Alimentari/Bevande) e la Distribu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alizzando gli investimenti dei soli utenti Radio sugli altri mezzi, il dato di chiusura conferma una leggera flessione già registrata nei recedenti periodi (-4%). Il calo è trasversale a tutti i mezzi (compresa la TV) ma più marcato per quanto riguarda la Stampa (Quotidiani e Periodici) e il W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393840" y="6307200"/>
            <a:ext cx="835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Nielsen, Pubblicità Tabellare Commerciale Nazionale, fatturati netti Gennaio-Dicembre 2015 Vs. 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10"/>
          <p:cNvSpPr/>
          <p:nvPr/>
        </p:nvSpPr>
        <p:spPr>
          <a:xfrm>
            <a:off x="392040" y="228600"/>
            <a:ext cx="821844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457200" y="630864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468360" y="277920"/>
            <a:ext cx="8136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ahoma"/>
              </a:rPr>
              <a:t>MERCATO RADIO - ANDAMENTO PER SET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539640" y="853920"/>
            <a:ext cx="8218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FATTURATI NETTI NIELSEN – TABELLARE (dati in migliaia di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393840" y="6307200"/>
            <a:ext cx="835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Nielsen, Pubblicità Tabellare Commerciale Nazionale, fatturati netti Gennaio-Dicembre 2015 Vs. 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magine 2" descr=""/>
          <p:cNvPicPr/>
          <p:nvPr/>
        </p:nvPicPr>
        <p:blipFill>
          <a:blip r:embed="rId1"/>
          <a:stretch/>
        </p:blipFill>
        <p:spPr>
          <a:xfrm>
            <a:off x="1440000" y="1197000"/>
            <a:ext cx="62118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2"/>
          <p:cNvSpPr/>
          <p:nvPr/>
        </p:nvSpPr>
        <p:spPr>
          <a:xfrm>
            <a:off x="392040" y="228600"/>
            <a:ext cx="821844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457200" y="630864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8360" y="277920"/>
            <a:ext cx="8218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ahoma"/>
              </a:rPr>
              <a:t>MERCATO RADIO - TURNOVER CL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1560" y="853920"/>
            <a:ext cx="8218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DAMENTO PER MACROSETTORE (numero clien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393840" y="6307200"/>
            <a:ext cx="835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Nielsen, Pubblicità Tabellare Commerciale Nazionale, fatturati netti Gennaio-Dicembre 2015 Vs. 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Immagine 2" descr=""/>
          <p:cNvPicPr/>
          <p:nvPr/>
        </p:nvPicPr>
        <p:blipFill>
          <a:blip r:embed="rId1"/>
          <a:stretch/>
        </p:blipFill>
        <p:spPr>
          <a:xfrm>
            <a:off x="930240" y="1197000"/>
            <a:ext cx="7083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2"/>
          <p:cNvSpPr/>
          <p:nvPr/>
        </p:nvSpPr>
        <p:spPr>
          <a:xfrm>
            <a:off x="392040" y="228600"/>
            <a:ext cx="821844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457200" y="630864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77920" y="1341360"/>
            <a:ext cx="854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VESTITORI SUL MEZZO RADIO: EVOLUZIONE MEDIA M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059280" y="17002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TOTALE MER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627280" y="2077920"/>
            <a:ext cx="177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3.170 Mio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464080" y="2079720"/>
            <a:ext cx="17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3.040 Mio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468360" y="277920"/>
            <a:ext cx="8218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ahoma"/>
              </a:rPr>
              <a:t>MEDIA MIX CLIENTI RADIOFONICI SU ALTRI MEZ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Grafico 12"/>
          <p:cNvGraphicFramePr/>
          <p:nvPr/>
        </p:nvGraphicFramePr>
        <p:xfrm>
          <a:off x="1457280" y="2295360"/>
          <a:ext cx="6588000" cy="40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Grafico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2295360"/>
                    <a:ext cx="658800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18"/>
          <p:cNvSpPr/>
          <p:nvPr/>
        </p:nvSpPr>
        <p:spPr>
          <a:xfrm>
            <a:off x="393840" y="6307200"/>
            <a:ext cx="835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Nielsen, Pubblicità Tabellare Commerciale Nazionale, fatturati netti Gennaio-Dicembre 2015 Vs. 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reeform 2"/>
          <p:cNvSpPr/>
          <p:nvPr/>
        </p:nvSpPr>
        <p:spPr>
          <a:xfrm>
            <a:off x="392040" y="228600"/>
            <a:ext cx="821844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457200" y="630864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68360" y="277920"/>
            <a:ext cx="8218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ahoma"/>
              </a:rPr>
              <a:t>MEDIA MIX CLIENTI RADIOFONICI SU ALTRI MEZZI</a:t>
            </a:r>
            <a:br>
              <a:rPr sz="2400"/>
            </a:br>
            <a:r>
              <a:rPr b="1" lang="it-IT" sz="1800" spc="-1" strike="noStrike">
                <a:solidFill>
                  <a:srgbClr val="cc0000"/>
                </a:solidFill>
                <a:latin typeface="Tahoma"/>
              </a:rPr>
              <a:t>FOCUS SUI PRIMI 5 SETTORI DEL COMPARTO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277920" y="1341360"/>
            <a:ext cx="854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VESTITORI SUL MEZZO RADIO: EVOLUZIONE MEDIA M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2556000" y="2077920"/>
            <a:ext cx="177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570 Mio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435640" y="2079720"/>
            <a:ext cx="177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576 Mio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3059280" y="17002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SETTORE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Grafico 12"/>
          <p:cNvGraphicFramePr/>
          <p:nvPr/>
        </p:nvGraphicFramePr>
        <p:xfrm>
          <a:off x="1460520" y="2298600"/>
          <a:ext cx="6667560" cy="40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Grafico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298600"/>
                    <a:ext cx="66675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18"/>
          <p:cNvSpPr/>
          <p:nvPr/>
        </p:nvSpPr>
        <p:spPr>
          <a:xfrm>
            <a:off x="393840" y="6307200"/>
            <a:ext cx="835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Nielsen, Pubblicità Tabellare Commerciale Nazionale, fatturati netti Gennaio-Dicembre 2015 Vs. 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 2"/>
          <p:cNvSpPr/>
          <p:nvPr/>
        </p:nvSpPr>
        <p:spPr>
          <a:xfrm>
            <a:off x="392040" y="228600"/>
            <a:ext cx="821844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457200" y="630864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77920" y="1341360"/>
            <a:ext cx="854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VESTITORI SUL MEZZO RADIO: EVOLUZIONE MEDIA M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2584440" y="2077920"/>
            <a:ext cx="177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396 Mio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5464080" y="2079720"/>
            <a:ext cx="17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496 Mio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68360" y="277920"/>
            <a:ext cx="8218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ahoma"/>
              </a:rPr>
              <a:t>MEDIA MIX CLIENTI RADIOFONICI SU ALTRI MEZZI</a:t>
            </a:r>
            <a:br>
              <a:rPr sz="2400"/>
            </a:br>
            <a:r>
              <a:rPr b="1" lang="it-IT" sz="1800" spc="-1" strike="noStrike">
                <a:solidFill>
                  <a:srgbClr val="cc0000"/>
                </a:solidFill>
                <a:latin typeface="Tahoma"/>
              </a:rPr>
              <a:t>FOCUS SUI PRIMI 5 SETTORI DEL COMPARTO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3059280" y="17002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SETTORE ALIMEN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Grafico 12"/>
          <p:cNvGraphicFramePr/>
          <p:nvPr/>
        </p:nvGraphicFramePr>
        <p:xfrm>
          <a:off x="1457280" y="2297160"/>
          <a:ext cx="6588000" cy="40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Grafico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2297160"/>
                    <a:ext cx="658800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18"/>
          <p:cNvSpPr/>
          <p:nvPr/>
        </p:nvSpPr>
        <p:spPr>
          <a:xfrm>
            <a:off x="393840" y="6307200"/>
            <a:ext cx="835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Nielsen, Pubblicità Tabellare Commerciale Nazionale, fatturati netti Gennaio-Dicembre 2015 Vs. 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"/>
          <p:cNvSpPr/>
          <p:nvPr/>
        </p:nvSpPr>
        <p:spPr>
          <a:xfrm>
            <a:off x="392040" y="228600"/>
            <a:ext cx="821844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457200" y="630864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277920" y="1341360"/>
            <a:ext cx="854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VESTITORI SUL MEZZO RADIO: EVOLUZIONE MEDIA M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468360" y="277920"/>
            <a:ext cx="8218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ahoma"/>
              </a:rPr>
              <a:t>MEDIA MIX CLIENTI RADIOFONICI SU ALTRI MEZZI</a:t>
            </a:r>
            <a:br>
              <a:rPr sz="2400"/>
            </a:br>
            <a:r>
              <a:rPr b="1" lang="it-IT" sz="1800" spc="-1" strike="noStrike">
                <a:solidFill>
                  <a:srgbClr val="cc0000"/>
                </a:solidFill>
                <a:latin typeface="Tahoma"/>
              </a:rPr>
              <a:t>FOCUS SUI PRIMI 5 SETTORI DEL COMPARTO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2627280" y="2077920"/>
            <a:ext cx="177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311 Mio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5508720" y="2079720"/>
            <a:ext cx="177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304 Mio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2700360" y="170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SETTORE TELECOMUN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Grafico 12"/>
          <p:cNvGraphicFramePr/>
          <p:nvPr/>
        </p:nvGraphicFramePr>
        <p:xfrm>
          <a:off x="1496880" y="2297160"/>
          <a:ext cx="6588360" cy="40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Grafico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2297160"/>
                    <a:ext cx="658836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18"/>
          <p:cNvSpPr/>
          <p:nvPr/>
        </p:nvSpPr>
        <p:spPr>
          <a:xfrm>
            <a:off x="393840" y="6307200"/>
            <a:ext cx="835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Nielsen, Pubblicità Tabellare Commerciale Nazionale, fatturati netti Gennaio-Dicembre 2015 Vs. 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2"/>
          <p:cNvSpPr/>
          <p:nvPr/>
        </p:nvSpPr>
        <p:spPr>
          <a:xfrm>
            <a:off x="392040" y="228600"/>
            <a:ext cx="821844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57200" y="630864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277920" y="1341360"/>
            <a:ext cx="854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VESTITORI SUL MEZZO RADIO: EVOLUZIONE MEDIA M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2556000" y="2077920"/>
            <a:ext cx="177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256 Mio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464080" y="2079720"/>
            <a:ext cx="17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284 Mio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468360" y="277920"/>
            <a:ext cx="8218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ahoma"/>
              </a:rPr>
              <a:t>MEDIA MIX CLIENTI RADIOFONICI SU ALTRI MEZZI</a:t>
            </a:r>
            <a:br>
              <a:rPr sz="2400"/>
            </a:br>
            <a:r>
              <a:rPr b="1" lang="it-IT" sz="1800" spc="-1" strike="noStrike">
                <a:solidFill>
                  <a:srgbClr val="cc0000"/>
                </a:solidFill>
                <a:latin typeface="Tahoma"/>
              </a:rPr>
              <a:t>FOCUS SUI PRIMI 5 SETTORI DEL COMPARTO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2771640" y="170028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SETTORE DISTRIB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Grafico 12"/>
          <p:cNvGraphicFramePr/>
          <p:nvPr/>
        </p:nvGraphicFramePr>
        <p:xfrm>
          <a:off x="1425600" y="2276640"/>
          <a:ext cx="6588000" cy="405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Grafico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5600" y="2276640"/>
                    <a:ext cx="6588000" cy="40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18"/>
          <p:cNvSpPr/>
          <p:nvPr/>
        </p:nvSpPr>
        <p:spPr>
          <a:xfrm>
            <a:off x="393840" y="6307200"/>
            <a:ext cx="835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Nielsen, Pubblicità Tabellare Commerciale Nazionale, fatturati netti Gennaio-Dicembre 2015 Vs. 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4:16:15Z</dcterms:created>
  <dc:creator>Mondadori Pubblicita</dc:creator>
  <dc:description/>
  <dc:language>en-US</dc:language>
  <cp:lastModifiedBy>Giacomo Sorci</cp:lastModifiedBy>
  <dcterms:modified xsi:type="dcterms:W3CDTF">2016-02-23T23:01:34Z</dcterms:modified>
  <cp:revision>20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1000000000001024140</vt:lpwstr>
  </property>
</Properties>
</file>